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EC30-34B2-4EA3-AC0D-09CA63027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F78-766E-413A-9EA4-E918DA5D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603F-8B8D-4274-BE8F-D6E79AD35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13DB-BB74-4917-B206-EA5E1526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BB63A-8C54-4532-8206-32F62E6C5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397D-013E-4CAA-B5D8-8DB2F543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1231-2784-4FA7-9433-5343AE21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0B91-00A1-4416-826F-6A0A8826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BA65-8E27-4E14-A3F2-C6839A52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3232-61F5-48A0-B273-E24BCF99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A278-D587-4096-AE39-240F99C3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991-F07F-4B16-8E89-4211443B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95D4-51B6-4051-ADDB-BEA5C7CA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268E-39B8-4C82-8E30-94CDB408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6FD3-6F01-4DA5-B7EB-FE28CD56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3A9F-39EE-4934-8169-1B80F3AA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4FEC-542D-40E7-AD48-0DD63956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7702-5A02-4008-8B7D-D4552557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92EB-0577-4E90-A0F9-7AC5568D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2387-D5E2-4662-BF0A-4DE52AC0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46C-89E7-417E-8581-C27F6A4A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C3E-374D-45C8-8D0E-39ABAC0B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F75-CA37-473F-8FF9-56EB0221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729-9133-4293-AB16-F3E06197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6D1A-8211-4383-9071-AA6B59C6741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5556-BAD9-46D6-B22F-7EB8A94430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cdmc.ucdavis.edu/welcome/features/20060621_teen_moms/photos/teen_pregnancy.jpg" TargetMode="External"/><Relationship Id="rId2" Type="http://schemas.openxmlformats.org/officeDocument/2006/relationships/hyperlink" Target="http://fig.cox.miami.edu/~cmallery/150/devel/c7.46.17.human.fetus.jpg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enage Pregnancy: </a:t>
            </a:r>
            <a:br>
              <a:rPr sz="3200"/>
            </a:b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Don’t do it!!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ing a Teen Moth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 you imagine a girl at the age of 15, barely legal to get her driver’s license, getting pregnant by her boyfriend. Well, if you can believe it, my friend is that girl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8280" y="2362320"/>
            <a:ext cx="1390680" cy="17953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84840" y="4290840"/>
            <a:ext cx="1717560" cy="17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s is how the fetus looks like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852560" y="4290840"/>
          <a:ext cx="1743120" cy="17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2560" y="4290840"/>
                    <a:ext cx="1743120" cy="17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57760" y="4290840"/>
            <a:ext cx="3773520" cy="179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1523880" y="1523880"/>
          <a:ext cx="1944720" cy="2414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523880"/>
                    <a:ext cx="194472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680080" y="2487600"/>
          <a:ext cx="1755720" cy="160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680080" y="2487600"/>
                    <a:ext cx="17557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735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757760" y="2997360"/>
          <a:ext cx="3773520" cy="245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7760" y="2997360"/>
                    <a:ext cx="377352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ibliograph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ucdmc.ucdavis.edu/welcome/features/20060621_teen_moms/photos/teen_pregnancy.jp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39aa1"/>
                </a:solidFill>
                <a:uFillTx/>
                <a:latin typeface="Arial"/>
              </a:rPr>
              <a:t>http://women4hope.files.wordpress.com/2007/12/teens-pregnancy.jp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fig.cox.miami.edu/~cmallery/150/devel/c7.46.17.human.fetus.jp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39aa1"/>
                </a:solidFill>
                <a:uFillTx/>
                <a:latin typeface="Arial"/>
              </a:rPr>
              <a:t>http://www.infoplease.com/ipa/A0193727.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9960" y="32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7T18:09:01Z</dcterms:created>
  <dc:creator>SI</dc:creator>
  <dc:description/>
  <dc:language>en-US</dc:language>
  <cp:lastModifiedBy>SI</cp:lastModifiedBy>
  <dcterms:modified xsi:type="dcterms:W3CDTF">2008-07-07T19:00:47Z</dcterms:modified>
  <cp:revision>3</cp:revision>
  <dc:subject/>
  <dc:title> Teenage Pregnancy:  Don’t do it!!</dc:title>
</cp:coreProperties>
</file>